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26B3F-9BAA-411C-AE15-31BDF551F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95BF9-5AF1-4556-AC65-A2BC524FC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5714C-856B-4C0C-89CA-48739C9F4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9AD82-6602-46A5-AB6E-5B253050F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859B6-BBB5-40CB-9386-DFB4210E5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DE2AB-A10D-45FF-A963-30F0863EC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60BD1-1692-4E24-B22D-9D04EACD2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FD6CA-860D-4D74-BA32-0B870B802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48CB1-9218-44E1-86B8-C8F650E9F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4B59A-2EA9-4FD7-A329-8F7942FB9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789B2-0BB8-4877-A4AD-C77737FD8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AB12B-2FE8-410C-B40A-D90123728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421E-81C2-43CF-A449-4A4A8514CA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c6c6"/>
            </a:gs>
            <a:gs pos="50000">
              <a:srgbClr val="f4efc7"/>
            </a:gs>
            <a:gs pos="100000">
              <a:srgbClr val="c6c6c6"/>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3809880"/>
            <a:ext cx="9144000" cy="3048120"/>
          </a:xfrm>
          <a:prstGeom prst="rect">
            <a:avLst/>
          </a:prstGeom>
          <a:ln w="0">
            <a:noFill/>
          </a:ln>
        </p:spPr>
      </p:pic>
      <p:sp>
        <p:nvSpPr>
          <p:cNvPr id="42" name=""/>
          <p:cNvSpPr/>
          <p:nvPr/>
        </p:nvSpPr>
        <p:spPr>
          <a:xfrm>
            <a:off x="685800" y="228600"/>
            <a:ext cx="7543800" cy="486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SemiIta"/>
              </a:rPr>
              <a:t>We would like to acknowledge the traditional custodians of the lands on which we meet today.</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SemiIta"/>
              </a:rPr>
              <a:t>We pay our respects to the elders, both past and present, and to those of the future, for they hold the memories, traditions, cultures and hopes of Aboriginal Australi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SemiIta"/>
              </a:rPr>
              <a:t>We also acknowledge that beneath the concrete and mortar of this building, this land is, was and always will be traditional Aboriginal l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par>
                          <p:cTn id="8" fill="hold">
                            <p:stCondLst>
                              <p:cond delay="1500"/>
                            </p:stCondLst>
                            <p:childTnLst>
                              <p:par>
                                <p:cTn id="9" nodeType="afterEffect" fill="hold" presetClass="entr" presetID="9">
                                  <p:stCondLst>
                                    <p:cond delay="1000"/>
                                  </p:stCondLst>
                                  <p:childTnLst>
                                    <p:set>
                                      <p:cBhvr>
                                        <p:cTn id="10" dur="1" fill="hold">
                                          <p:stCondLst>
                                            <p:cond delay="0"/>
                                          </p:stCondLst>
                                        </p:cTn>
                                        <p:tgtEl>
                                          <p:spTgt spid="42"/>
                                        </p:tgtEl>
                                        <p:attrNameLst>
                                          <p:attrName>style.visibility</p:attrName>
                                        </p:attrNameLst>
                                      </p:cBhvr>
                                      <p:to>
                                        <p:strVal val="visible"/>
                                      </p:to>
                                    </p:set>
                                    <p:animEffect filter="dissolve" transition="in">
                                      <p:cBhvr additive="repl">
                                        <p:cTn id="11"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533520" y="457200"/>
            <a:ext cx="792468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AU" sz="2400" spc="-1" strike="noStrike">
                <a:solidFill>
                  <a:srgbClr val="ffffff"/>
                </a:solidFill>
                <a:latin typeface="Arial Narrow"/>
              </a:rPr>
              <a:t>As we begin today’s seminar, I would like to acknowledge the traditional custodians of this land – the people of the Yuin Nation.</a:t>
            </a:r>
            <a:r>
              <a:rPr b="1" lang="en-AU" sz="2400" spc="-1" strike="noStrike">
                <a:solidFill>
                  <a:srgbClr val="000000"/>
                </a:solidFill>
                <a:latin typeface="Arial Narro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AU" sz="2400" spc="-1" strike="noStrike">
                <a:solidFill>
                  <a:srgbClr val="ffffff"/>
                </a:solidFill>
                <a:latin typeface="Arial Narrow"/>
              </a:rPr>
              <a:t>We pay our respects to the Elders, both past and present, and to those of the future, for they hold the memories, the traditions, the cultures and the hopes of Aboriginal Austral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23000">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6T06:43:56Z</dcterms:created>
  <dc:creator>NSW CAP</dc:creator>
  <dc:description/>
  <dc:language>en-US</dc:language>
  <cp:lastModifiedBy>Liz Sweaney</cp:lastModifiedBy>
  <dcterms:modified xsi:type="dcterms:W3CDTF">2009-09-14T22:42:23Z</dcterms:modified>
  <cp:revision>5</cp:revision>
  <dc:subject/>
  <dc:title>PowerPoint Presentation</dc:title>
</cp:coreProperties>
</file>